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CDF50-7428-41ED-BEAF-3907FA9E79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3241F-5820-438D-98EB-4711403AD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E44B0-AE40-42F9-9118-4CA17211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E1E57-48C8-44E4-BDE9-CD29345DFA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6E9BD-6288-4696-B807-2A044A50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364AE-FAE3-4C8D-BE55-A58B10118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29F45-E927-4CCA-8A27-23A3AF94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CAC23-398C-4E84-A448-23E1F9351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C0234-9FCE-4E96-A15C-2C7B736AD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EC268-DE8B-478E-839D-1B370EA83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21E6A-B738-4DF6-BF3D-84AB9FC6C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CECB1-29D8-4175-A5C0-8F4915E3D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6A6EC-AB91-4F63-BBB1-D78AA598D0E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276280"/>
            <a:ext cx="482436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、作业治疗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012000" y="5229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林萍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0920" y="1371240"/>
            <a:ext cx="830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六）作业治疗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认知与知觉功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注意力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记忆障碍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失认症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失用症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六）作业治疗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日常生活活动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个人卫生：洗脸、刷牙、梳头、洗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床上活动：翻身、坐起、上下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更衣：穿脱衣裤和鞋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转移训练：床和轮椅间转移、轮椅和拐杖的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进食：端碗、持杯、用筷或刀叉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六）作业治疗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辅助器具配制及使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进食、着装、如厕、写字等辅助器具，如防止饭菜洒落的盘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改造的碗、筷、杯，协助固定餐具的防滑垫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加粗改进型的勺、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帮助完成抓握动作的万能袖等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29" name="Picture 4" descr="4-2-41"/>
          <p:cNvPicPr/>
          <p:nvPr/>
        </p:nvPicPr>
        <p:blipFill>
          <a:blip r:embed="rId1"/>
          <a:stretch/>
        </p:blipFill>
        <p:spPr>
          <a:xfrm>
            <a:off x="324000" y="1557360"/>
            <a:ext cx="4103640" cy="3887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4-2-44"/>
          <p:cNvPicPr/>
          <p:nvPr/>
        </p:nvPicPr>
        <p:blipFill>
          <a:blip r:embed="rId2"/>
          <a:stretch/>
        </p:blipFill>
        <p:spPr>
          <a:xfrm>
            <a:off x="4427640" y="1557360"/>
            <a:ext cx="4321080" cy="38876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6"/>
          <p:cNvSpPr/>
          <p:nvPr/>
        </p:nvSpPr>
        <p:spPr>
          <a:xfrm>
            <a:off x="324000" y="4941720"/>
            <a:ext cx="842472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自助筷子、勺、碟、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2916360" y="5589720"/>
            <a:ext cx="345600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辅助器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6104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七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根据患者的体力、病情、兴趣、生活、学习等需要选择作业治疗内容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结合医院、社区、家庭环境条件选择作业治疗方式，应做到因地制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有专业治疗人员或家人监护和指导，以保证安全，防止发生意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定期评定，及时调整、修订治疗处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作业治疗需与物理治疗、心理治疗、言语治疗、康复工程等治疗方法密切结合，以提高疗效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一）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作业治疗（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occupational therapy, OT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是应用有目的和选择性的参与活动，帮助功能障碍的病人进行治疗性训练，以最大限度地恢复躯体、心理和社会方面的功能，增进健康，预防能力丧失及残疾的发生，帮助其重返社会的一种治疗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作业治疗的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是保持或增强患者的参与能力，促进患者获得新的日常生活活动能力及职业能力的过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作业治疗的最终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提高生存质量，训练患者成为生活中的主动角色，积极进行必需的生活活动和工作，进一步消除残疾，增进健康，重返家庭与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6104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二）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作业治疗根据分类的方式不同有不同的项目分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作业治疗的名称分类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手工艺作业，日常生活活动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ADL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训练，文书类作业，治疗性游戏作业，认知作业，木工作业，编织作业，书法、绘画作业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治疗内容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日常生活活动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ADL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训练、工艺治疗、园艺治疗、文娱治疗、矫形器制作及训练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治疗目的和作用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增强肌力的作业、增强肌肉耐力的作业、改善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ROM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的作业、减轻疼痛的作业、增强协调性的作业、改善整体功能的作业、提高认知能力的作业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作业疗法的功能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功能性作业治疗、职业作业治疗、娱乐活动、作业宣教和咨询、环境干预、辅助技术等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三）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增强躯体感觉和运动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提高日常生活活动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改善社会适应和心理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四）选择作业治疗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在全面评定的基础上，有目的地进行选择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对活动进行分析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对活动进行必要的修改和调整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尽量以集体活动的方式进行活动，提高患者治疗的积极性和治疗效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充分发挥治疗师的指导、协调作用，保证活动的顺利进行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9720" y="1371240"/>
            <a:ext cx="7915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五）作业治疗的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运动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日常生活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认知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感觉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心理社会活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六）作业治疗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治疗性功能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强加肌力的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增加耐力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增加关节活动度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增强协调性和平衡功能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6:44:03Z</dcterms:modified>
  <cp:revision>1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